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19.gif" ContentType="image/gif"/>
  <Override PartName="/ppt/media/image1.gif" ContentType="image/gif"/>
  <Override PartName="/ppt/media/image10.png" ContentType="image/png"/>
  <Override PartName="/ppt/media/image18.gif" ContentType="image/gif"/>
  <Override PartName="/ppt/media/image3.wmf" ContentType="image/x-wmf"/>
  <Override PartName="/ppt/media/image17.jpeg" ContentType="image/jpeg"/>
  <Override PartName="/ppt/media/image5.gif" ContentType="image/gif"/>
  <Override PartName="/ppt/media/image16.png" ContentType="image/png"/>
  <Override PartName="/ppt/media/image7.jpeg" ContentType="image/jpeg"/>
  <Override PartName="/ppt/media/image8.jpeg" ContentType="image/jpeg"/>
  <Override PartName="/ppt/media/image2.gif" ContentType="image/gif"/>
  <Override PartName="/ppt/media/image4.gif" ContentType="image/gi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8B7-4E9A-48D7-8925-68DC797C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682-14EE-4D78-B429-CA3418A1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BF0-D8F2-46FC-980C-73AFDC84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B33-E67F-4310-A6E6-5DDF7514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3BD-9B9A-450F-99D5-A5B8EF2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686-773A-4936-834B-5508208A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D09-3B45-4EAD-B68B-87B3FF9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E4D-C3A6-455D-A672-4DB9761B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A8E-FF3B-435E-BAE9-96473411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E0D-E90C-4EE2-9F91-AE50E98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99F-EA2A-4156-B0A1-E08BD0A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157-E98F-4819-9C81-A3F1635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9EF-56C3-40FA-9D58-D53D9B44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dhs-fs/tshare/DeLaurentis%20-%20Biology%20392/Biology%20392/Unit%202%20-%20Chapters%202,%2038%20,%208,%209,%2023/Chapter%208%20-%20Photosynthesis/Movies/Chapter%2008A.m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Impala_ram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aiandra GD"/>
              </a:rPr>
              <a:t>Chapter 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Energy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7480" y="2120760"/>
            <a:ext cx="7961400" cy="3210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30760" y="1776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1640" y="177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90920" y="28177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4020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360" y="350208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diphosphate (ADP) + Phosph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50400" y="3502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triphosphate (A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560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452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223920"/>
            <a:ext cx="49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3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parison of ADP and ATP to a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Forma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difference between an autotroph an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terotro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fuel for life?  Why must i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another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is ATP? What are its 3 main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is ATP used to store and release energ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What is the difference between an endergon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and an exergonic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20960" cy="1020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801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nergy =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. light, heat, electricity, stored in bonds of chemical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ving things depend 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en when sleeping, your cells use energy to build new proteins and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28800" y="4800600"/>
            <a:ext cx="213372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981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utotroph vs. Heterotro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ut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(auto = “self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rganisms that make their ow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lants and some other organisms use light energy from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eter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(hetero = “other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btain energy from the foods that they con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at autotrophs or other 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7480" y="1336680"/>
            <a:ext cx="1101960" cy="105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0120" y="4730760"/>
            <a:ext cx="11811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194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Impala ram from the Kruger National Park, South Africa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438280"/>
            <a:ext cx="3175200" cy="212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600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rass ge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600200"/>
            <a:ext cx="2819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impala gets energy from eating the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leopard gets energy from eating the im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257800"/>
            <a:ext cx="79246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Maiandra GD"/>
              </a:rPr>
              <a:t>Which are autotrophs and which are heterotrophs? Explain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grass = autotroph (makes its own food)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impala and leopard = heterotrophs (get energy from foods they cons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Fuel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lucose is called the fue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nosaccha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s too much energy for cells to use all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ust convert this large amount of energy into a usabl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ke getting change from a vend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76600" cy="281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1343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Adenosine 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hemical compound that cells use to store and releas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asic energy source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3 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ibose (s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4191120" cy="159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956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35053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e energy that ATP carries is found in the bonds between the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nergy is released when these bonds are broken; energy is stored when these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53337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vs. ADP /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DP = adenosine d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2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MP = adenosine mon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1 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oth of the above are recyc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1411200"/>
            <a:ext cx="4876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267080" y="304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62485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195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Lose phosphate (break bond) = energy i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666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2743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ain phosphate (form bond) = energy is 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38:21Z</dcterms:created>
  <dc:creator>bpalme</dc:creator>
  <dc:description/>
  <dc:language>en-US</dc:language>
  <cp:lastModifiedBy>udsd</cp:lastModifiedBy>
  <dcterms:modified xsi:type="dcterms:W3CDTF">2009-12-09T14:57:34Z</dcterms:modified>
  <cp:revision>17</cp:revision>
  <dc:subject/>
  <dc:title>Slide 1</dc:title>
</cp:coreProperties>
</file>